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5DB0-B5FD-496F-A053-C5A3279E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EE4-82BA-4098-87E9-8E92FC9A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F77-61E1-4613-A4D7-B0D457B0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F577-8922-481E-92E8-95D9E091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8F2-47BE-48B5-9B99-EEE7B173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77D5-407B-42DC-AAF8-20BE7D8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2875-228A-4A5E-81CE-4829F5D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0BE9-938B-42F6-ACCF-9551DBC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7B20-C6C6-4A3D-8FCE-75852D2E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9F78-05A5-40B6-ABBB-7E528404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58ED-63F8-49A2-A1E0-C3F077F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D37E-63F7-496A-BE66-1835CEC3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BF18-A8BF-4CB7-8F93-01CE86CF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371B-EFBD-456B-9FD0-E46E9FED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4C97-635F-44EA-B297-24AFBC69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1B884-61C1-4F3E-A7A9-18BCF5C0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8F37-66EA-452D-A28B-82245D1BC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6568-E925-409E-945F-52356600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ACFF7-45E0-4B40-9D2D-BFECFFDC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AD482-A5CE-4911-9D9C-A9E05F68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6D0A0-4901-4FD7-842E-00632260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F3A07-A195-445B-9F1C-5D76DD15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EF8-5403-4764-9930-BE0FF63D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4AA4-74A7-43F8-9F93-691C8ED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9FBD-E32A-4515-90FC-4BC9B3EB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98ED-D8CE-463B-B1BB-19FB9B78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C2EB-237E-40D8-9BA2-658C545A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8E493-B025-45E1-B342-8684E95A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4DC85-CB5A-4194-A968-B3CDEC9E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7A11-A139-47E7-8CB0-4F17BB8B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EE56-5486-4FDE-8989-78AE628B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2EF3D-C682-4C79-84E0-E97D9CAE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64DD2-B875-45CC-9675-620A41ED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669-7971-4645-9536-6847828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91CB-44A8-4E94-97C7-C7A4CEF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AAA3A-5C54-4C2C-924B-9CF6BC8E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0B00-E0C3-4B6A-BDCC-4CB869B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8EC7-8B41-4900-963D-D4343F20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E5277-FCFF-46C5-BC91-1F89642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58B7-9993-4993-A1E0-F9B89707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D5A4-9E95-44DC-9101-A0E691AA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4BD21-DBD2-4777-8EB9-FD2F330C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CEA6-322A-43F3-85E4-0CB7FC28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25E5-8875-4646-8D14-D71616D2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327-9AF4-4D2D-B6A4-03ABC954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03A5-12E6-47D8-9028-7067FD3E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4D2E-6556-4910-8464-5E5893DB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1B1-5AC0-43BF-93B9-F33A90E5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F813-00ED-4E49-8EFC-42CF4A97974B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8EC-013C-4158-B582-B2E897B82667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c7c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C3E0-8F53-4BB8-A1D8-DA340B124AC5}" type="slidenum">
              <a:rPr b="0" lang="en-US" sz="1200" spc="-1" strike="noStrike">
                <a:solidFill>
                  <a:srgbClr val="bcc7c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EBA-AFBA-4EBD-8F04-DF63F8983331}" type="slidenum">
              <a:rPr b="0" lang="en-US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teach.co.uk/index.php/search/results?curr_id=1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mnh.org/sciencebulletins/biobulletin/biobulletin/story996.html" TargetMode="External"/><Relationship Id="rId2" Type="http://schemas.openxmlformats.org/officeDocument/2006/relationships/hyperlink" Target="http://commtechlab.msu.edu/sites/dlc-me/zoo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xpeditions/lessons/14/g912/whom.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encenetlinks.com/sci_update.cfm?DocID=53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images.google.com/imgres?imgurl=http://static.howstuffworks.com/gif/ocean-current-1.jpg&amp;imgrefurl=http://science.howstuffworks.com/ocean-current.htm&amp;h=317&amp;w=400&amp;sz=25&amp;hl=en&amp;start=33&amp;sig2=WOxvsyYu5jeAtnC0I0wZmw&amp;usg=__AfRGCs_NkqKBmkeer06pnxT4EJk=&amp;tbnid=Co46oZl6RXTtIM:&amp;tbnh=98&amp;tbnw=124&amp;ei=qGkTSev1NI3OeoWG0LgM&amp;prev=/images%3Fq%3Docean%26start%3D20%26gbv%3D2%26ndsp%3D20%26hl%3Den%26safe%3Dactive%26sa%3DN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saharamet.com/desert/photos/desert2.jpg&amp;imgrefurl=http://www.saharamet.com/desert/photos/photos.html&amp;h=485&amp;w=756&amp;sz=78&amp;hl=en&amp;start=8&amp;sig2=vr0nc68vmVTKnb5jjsHLCg&amp;usg=__LMAM1m0WZxTT3ZRW9xk8QnY3Zgg=&amp;tbnid=pm2sFErRPs1_ZM:&amp;tbnh=91&amp;tbnw=142&amp;ei=yWkTSbeuL46UeoXzjbkM&amp;prev=/images%3Fq%3Ddesert%26gbv%3D2%26hl%3Den%26safe%3Dactiv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cercopan.wildlifedirect.org/files/2008/03/forest.jpg&amp;imgrefurl=http://cercopan.wildlifedirect.org/category/rain-forests/&amp;h=457&amp;w=524&amp;sz=124&amp;hl=en&amp;start=3&amp;sig2=8Zoq2Gq-8PAXqqYGw8UtEw&amp;usg=__-Q9QXFBo9f_XmgsW1xT69AceV2c=&amp;tbnid=U2G2xGmQJsGr9M:&amp;tbnh=115&amp;tbnw=132&amp;ei=G2oTScWZN6XCedHbpLkM&amp;prev=/images%3Fq%3Dforest%26gbv%3D2%26hl%3Den%26safe%3Dactive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ationalgeographic.com/xpeditions/lessons/14/g912/whom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Ecosystem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0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about the basic elements of Ecosystems by watching the video or completing the activities at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yTeac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If the link only goes to the main page, copy and paste the following into your URL:   </a:t>
            </a:r>
            <a:r>
              <a:rPr b="0" lang="en-US" sz="800" spc="-1" strike="noStrike">
                <a:solidFill>
                  <a:srgbClr val="000000"/>
                </a:solidFill>
                <a:latin typeface="Constantia"/>
              </a:rPr>
              <a:t>http://www.yteach.com/page.php/resources/view_all?id=biocenosis_biome_biotope_consumer_decomposer_ecology_ecosystem_environment_herbivory_autotroph_chemoautotroph_heat_decomposer_predator_energy_photoautotroph_photosynthesis_matter_individual_population_herbivore&amp;from=search</a:t>
            </a: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 the website, go to the bottom right hand side of the screen and click on the elephants for a short introduction vide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ce the video is complete, click the arrow at the bottom of the screen to continu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46b86"/>
                </a:solidFill>
                <a:latin typeface="Calibri"/>
              </a:rPr>
              <a:t>How do humans survive in different ecosystems?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rn about the balance between man and microbe at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Bio Bulletin’s Tipping the Sca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o indepth on the different types of microbes at the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2"/>
              </a:rPr>
              <a:t>Microbe Zo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2" descr="http://www.amnh.org/sciencebulletins/biobulletin/images/web/photos/BB4_wkp_HIV_130000x.JPG"/>
          <p:cNvPicPr/>
          <p:nvPr/>
        </p:nvPicPr>
        <p:blipFill>
          <a:blip r:embed="rId3"/>
          <a:stretch/>
        </p:blipFill>
        <p:spPr>
          <a:xfrm>
            <a:off x="609480" y="3843360"/>
            <a:ext cx="2286000" cy="2709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www.amnh.org/sciencebulletins/biobulletin/images/web/photos/BB4_wkp_Malaria_5.300x.jpg"/>
          <p:cNvPicPr/>
          <p:nvPr/>
        </p:nvPicPr>
        <p:blipFill>
          <a:blip r:embed="rId4"/>
          <a:stretch/>
        </p:blipFill>
        <p:spPr>
          <a:xfrm>
            <a:off x="6705720" y="4083120"/>
            <a:ext cx="2019240" cy="2394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www.amnh.org/sciencebulletins/biobulletin/images/web/photos/BB4_kioskpiece_nature.jpg"/>
          <p:cNvPicPr/>
          <p:nvPr/>
        </p:nvPicPr>
        <p:blipFill>
          <a:blip r:embed="rId5"/>
          <a:stretch/>
        </p:blipFill>
        <p:spPr>
          <a:xfrm>
            <a:off x="3352680" y="4343400"/>
            <a:ext cx="27100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646b86"/>
                </a:solidFill>
                <a:latin typeface="Calibri"/>
              </a:rPr>
              <a:t>How do changes in an ecosystem change the organisms living in and around it?</a:t>
            </a:r>
            <a:endParaRPr b="0" lang="en-US" sz="45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the Aral Sea using the links at the bottom of the page provided by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National Geographi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y is the lake endangere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do you believe will happen to the animals and the people living in and around the lake over time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this occurring in other parts of the world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Ships' Cemetry near Aralsk"/>
          <p:cNvPicPr/>
          <p:nvPr/>
        </p:nvPicPr>
        <p:blipFill>
          <a:blip r:embed="rId2"/>
          <a:stretch/>
        </p:blipFill>
        <p:spPr>
          <a:xfrm>
            <a:off x="457200" y="5232240"/>
            <a:ext cx="2438280" cy="162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Water Source. "/>
          <p:cNvPicPr/>
          <p:nvPr/>
        </p:nvPicPr>
        <p:blipFill>
          <a:blip r:embed="rId3"/>
          <a:stretch/>
        </p:blipFill>
        <p:spPr>
          <a:xfrm>
            <a:off x="6095880" y="5130720"/>
            <a:ext cx="2590920" cy="1727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Village Bekaristan Bay - Water source"/>
          <p:cNvPicPr/>
          <p:nvPr/>
        </p:nvPicPr>
        <p:blipFill>
          <a:blip r:embed="rId4"/>
          <a:stretch/>
        </p:blipFill>
        <p:spPr>
          <a:xfrm>
            <a:off x="3276720" y="5181480"/>
            <a:ext cx="25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hanges in Ecosystem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at happens when a new species is introduced to an ecosystem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d out by </a:t>
            </a:r>
            <a:r>
              <a:rPr b="0" lang="en-US" sz="26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listening to the podcast from Science NetLink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3" descr="http://www.foejapan.org/en/img_cmn/spacer.gif"/>
          <p:cNvPicPr/>
          <p:nvPr/>
        </p:nvPicPr>
        <p:blipFill>
          <a:blip r:embed="rId2"/>
          <a:stretch/>
        </p:blipFill>
        <p:spPr>
          <a:xfrm>
            <a:off x="0" y="0"/>
            <a:ext cx="9360" cy="476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http://tbn0.google.com/images?q=tbn:Co46oZl6RXTtIM:http://static.howstuffworks.com/gif/ocean-current-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809960"/>
            <a:ext cx="2590920" cy="2048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http://tbn0.google.com/images?q=tbn:pm2sFErRPs1_ZM:http://www.saharamet.com/desert/photos/desert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53040" y="4876920"/>
            <a:ext cx="3090960" cy="1981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http://tbn0.google.com/images?q=tbn:U2G2xGmQJsGr9M:http://cercopan.wildlifedirect.org/files/2008/03/fores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4267080"/>
            <a:ext cx="2973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Source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ral Sea:  What’s Happening to Whom? 2008 National Geographic Society. </a:t>
            </a:r>
            <a:r>
              <a:rPr b="0" lang="en-US" sz="1800" spc="-1" strike="noStrike" u="sng">
                <a:solidFill>
                  <a:srgbClr val="00a3d6"/>
                </a:solidFill>
                <a:uFillTx/>
                <a:latin typeface="Constantia"/>
                <a:hlinkClick r:id="rId1"/>
              </a:rPr>
              <a:t>http://www.nationalgeographic.com/xpeditions/lessons/14/g912/whom.htm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worm Invaders, 2008, Science Net Links. http://www.sciencenetlinks.com/sci_update.cfm?DocID=53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osystem, 2008, UNIVERSAL Curriculum &amp; yTeachSys. http://www.yteach.co.uk/index.php/search/results?curr_id=1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be Zoo, Digital Learning Center for Microbial Biology. http://commtechlab.msu.edu/sites/dlc-me/zoo/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ipping the Scale, 2008, Bio Bulletin. http://www.amnh.org/sciencebulletins/biobulletin/biobulletin/story996.html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SO’s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iolog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C.O.B.2.21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aracterize interrelationships of organisms within an ecosystem (e.g., symbiosis, competition, predation, mutualism, parasitism, commensalism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1:29:58Z</dcterms:created>
  <dc:creator>ccsguest</dc:creator>
  <dc:description/>
  <dc:language>en-US</dc:language>
  <cp:lastModifiedBy>Lezlie</cp:lastModifiedBy>
  <dcterms:modified xsi:type="dcterms:W3CDTF">2008-11-15T19:21:18Z</dcterms:modified>
  <cp:revision>12</cp:revision>
  <dc:subject/>
  <dc:title>Slide 1</dc:title>
</cp:coreProperties>
</file>